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A54-B34B-4756-BF8F-CCA9B15E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C11-A9AA-499E-B21E-56BFCE71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4F4-F97D-4018-861B-AD3B7D14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7C7-D2AA-4E73-9C22-8484C99D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9D31-6E85-498C-BEAF-C8D7BB4D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2892-EFAA-48FB-A2AD-B4F7E801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5E7A-C091-4706-B483-FDADC3AD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6C59-91AB-4AD3-B093-55C5F543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3BCA-6401-4147-A18E-9A9A8F01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CD0D-F377-41F5-860F-94FF473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FBC9-B759-415E-9317-7102FD2A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46E-AF0D-4A93-9633-53A356C5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E25A-B8DC-476B-98C3-EA069671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0C32-16F4-4B42-9D38-51C797E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5E3D-F2D2-4C8F-A979-2AFC2C8E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DD8D-6BED-4EDB-B80F-AFDC1512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5A67-377D-4EE7-AA0D-4C71DE45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EA03-AC4D-4EF8-9423-A28B58C3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CFA30-D64A-4A66-AD91-5D1A1D76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A480E-162D-4676-AED5-982ABF20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7290-A9B3-4B37-B86F-9FD5B4B8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50C0-2724-4F91-A15E-2AF9D63F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52B-092E-49ED-A7D6-FA35FB3C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6782-1EB4-4043-9E28-0F72B885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EFFC-A40D-4FC1-BA23-31BEBE1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491B-4F12-4075-81AE-8A411BBF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2B43-BA4F-43A5-92C7-D74F78B5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CEBE-877F-42D7-975E-5516AC5E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9B82-E6E0-4883-9402-312E8231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D28A-8FA0-433F-8415-D81F63C6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20A4-84B0-4A21-B30B-3B89B4E0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0460-60EA-45D8-9212-BE402965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3DCE-8C73-4A9C-81FB-25E20B5B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42D-3035-42F4-B130-A5B55F05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F2F6-3DE2-4634-B814-343C5F2F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20CC-DDA0-4752-93C5-1E7592B5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B739-7ADC-4F3D-8716-FBFA0F29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7B38-F4B8-48DF-A55D-0D548B36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E256-1DC7-4523-A708-D1A660F5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A2EC-D942-4963-A7FB-71A6154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8685-E4CB-4312-9B0C-6AF50170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C6166-7935-4B55-A796-3C362075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37EB0-560F-4C71-BBBC-25782D45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97A3-0BDD-45A9-BB79-34149217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123-8EB5-4C2C-B2AC-8A27796B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901F-FB30-4895-AFE3-ADED6D27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48124-8A11-4A44-89A7-F4EBCA3C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D7495-2905-4E11-9DCC-1219FF9D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00842-C408-4336-A32A-9C5F4BF6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231D-8E99-4257-A375-668436FA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9B387-2FEF-43C4-A12F-8A4554E6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2770-0632-40BF-A75A-E0BB27B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16C82-2FD5-48E1-8BAB-2B738192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E19B-B622-4CCB-A325-9AE54E42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05CF-6C20-4E7F-BF5B-F67F4BF7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16A-2EE1-400E-B7E5-85AED19D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51E8-E07E-4EAC-A35B-CB2F9215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B9E0-13CE-4C5C-AD75-3D89F674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41F7E-22D3-42FF-82D3-14B7911B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0CC49-D6A8-4544-88E5-187FDFB9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A039-A7A1-478F-8000-7005458A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EA0CE-F102-4FB1-A596-6B0E3D75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293DA-455F-4B14-8FA1-A667940E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4EFA-13DF-4F79-842F-6BC0DF2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F1480-7E26-4909-BFCF-1BAF0ED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506D-BE88-4622-BD79-B17151E0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DCE-C668-4082-8FEC-9423443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ED7E-0980-4198-B364-30E1DEE0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737B-C40B-4DB6-B4A0-1D287660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663B7-A65F-46F2-AA57-A5F80D9C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9BFBF-2707-4D0D-A34A-63826A4B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202A4-75F0-4095-8C97-25C736F5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7A8D6-95DC-4BB5-8371-F1696008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4F35E-315A-455A-88A2-1785F37C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6ADA9-9498-4ED1-AAB0-0C2C4FB7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CC0CA-C805-4B53-8554-564AB7D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8A0F-11AC-4480-9ACE-6F8BBBBC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2F0-C824-4CF5-979A-35DD5D3B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1486A-273B-47C7-B7C2-4AD4A8EA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AA37E-B941-46FE-B8DB-42DC41F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D0D10-BFC0-4197-BD4E-4AB90679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1EC4-CFA5-431D-8EB4-37F54595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1033-8C3A-4377-A3CA-6527852D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AB568-95A0-4E56-B17B-F6C66389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4B24-49CA-4135-A496-F8E451E1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D979-DBAA-485C-8F82-0E26E70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9FD02-54DB-495D-BBA8-E15CA4B7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00EE-D5E0-4CF2-BC19-54E7B0C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9BC-3EB2-496E-A97B-AB83376C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52FFD-5C9B-4C02-AA81-9474F87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2CA7F-E616-441E-B9A3-612FC02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64945-11BC-47D1-B081-11950E39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095E5-FE3B-4D7B-9E6E-48B25546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AE159-6872-4310-8082-C873718D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E4538-C009-4F4F-A0C8-D1C20A5F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88F99-1367-4F76-8740-1C0D1D95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8466-33B2-4587-95AF-71F6830E1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2659-4A28-4C43-A2F2-FECACC5469A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7AB-F559-4CAD-A807-6DD70082F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E33-8094-4BBB-B04E-298D3B350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A2AE-8538-4DBC-B4B4-DC8F8692C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2BF-95C2-485C-A126-34A8E99C8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3EBE-13D6-4C4E-98AA-CC9B281FCC9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71A9-6D1F-4EC5-BAFE-4FE34B5D3FD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42880" y="658800"/>
            <a:ext cx="8467920" cy="18828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396720" y="2127240"/>
            <a:ext cx="83934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5" name="Content Placeholder 3" descr=""/>
          <p:cNvPicPr/>
          <p:nvPr/>
        </p:nvPicPr>
        <p:blipFill>
          <a:blip r:embed="rId1"/>
          <a:stretch/>
        </p:blipFill>
        <p:spPr>
          <a:xfrm>
            <a:off x="152280" y="666720"/>
            <a:ext cx="8991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 you enjoy romantic comedies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about romantic movies do you enjoy or hat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 you wish your life was like a romantic comedy?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are the similarities in the movie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are the boys portrayed? How are the gir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bitua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r’s bloc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peless romanti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tracted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pestry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pep talk didn’t the friend offer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.) inspirational B.) new opportunity C.) More chances available D.) You made a mistak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doesn’t the friend have to confirm the other man’s decision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did the letter say the man died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did the letter say the man changed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) They fall in love without knowing each other for a whi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) The guy always messes up and must do something to ‘PROVE’ his lov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ually something stupid in publi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d usually a long and stupid speec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ow Notting Hill Clip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.)Movie never shows the problems that occur in every relationship over time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.)The actors always say the perfect thing at the perfect time (show video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.) The Rom Com is blamed with creating unrealistic expectations in real life relationship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2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ewers of the romantic comedy were found to be more likely to believe in fate and destiny  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(http://content.time.com/time/health/article/0,8599,1868389,00.html)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t very popul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ritics love th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ually seen as too realistic and too uncomfortable for the average pers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lso described as too bor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story of a relationship between two people over the course of 20 yea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fore Sunri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fore Suns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fore Midnigh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ow trai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ovies are loved by a small passionate group of peop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et all three movies together have only made about $40 million tot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 comparison a typical Rom Com will make $40 million in the first weekend it is relea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your favorite type of mov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 you like realistic movies or escapism movies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 you think movies influence how you view your relationships? Your lif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opularity versus praise. What would you prefer, to be popular or to be praised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la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lusion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crewed ov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tirred something (shit) up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ter under the brid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en is the woman only truly happy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 when she is alone B. when she is with her lover c. when she is listening to music D. alway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s the woman still a romantic? Why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doesn’t the woman like the man’s book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)it was badly written B. it reminded her of her past C. it was too long D. it was sa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is she dying insid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 she feels pain B. she feels numb C. she feels excitement D. She is bit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round break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ike a dog that keeps coming bac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did the girl say to the guy back in the room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 I don’t love you anymore B. Stop it C. Its not your book D. she didn’t say anyth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does the man “play a game” and tell her, “her ass will look great when she is 80?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. he is bored B. Its from a book C. to have fun. D. To make her laug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do you think she asks him about a time machin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5652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ending do you like better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ending is more realistic? Wh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f you had to watch a movie with your boyfriend or girlfriend which movie would you choos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fter watching these different clips, why do you think Rom Coms are more popular than realistic movie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2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Notting hill ending, love actually ending, before midnight ending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ies that uses romance and comedy to tell a love sto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ovies make hundreds of millions of dollars every ye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r example, </a:t>
            </a:r>
            <a:r>
              <a:rPr b="0" i="1" lang="en-US" sz="2600" spc="-1" strike="noStrike">
                <a:solidFill>
                  <a:srgbClr val="ffffff"/>
                </a:solidFill>
                <a:latin typeface="Century Gothic"/>
              </a:rPr>
              <a:t>How to Lose a Guy in 10 Days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de almost $200,000,00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st famous actresses and actors will be in at least one of these movies (Notting Hill Traile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52280" y="522360"/>
            <a:ext cx="83822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th main actor and actress will be very handsome and/or beautifu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us, in reality, would  not be singl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itle of movie is cute and clev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tting Hill, Ten things I hate about you, The Proposal, Maid in Manhattan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riends of the main actors will be very strange and do stupid things yet always give the best advic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atch video of spik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-33480" y="152280"/>
            <a:ext cx="9155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t the beginning the two people are very very differ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ts of montages of happy times (dates, kisses) and sad times (crying, drinking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e of old songs and new catchy song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ie critics hate these movies yet a lot people love th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milar to action movi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y meets girl, boy and girl get together, boy and girl break up, guy does something stupid to get the girl back, they live happy ever af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3" name="Content Placeholder 3" descr=""/>
          <p:cNvPicPr/>
          <p:nvPr/>
        </p:nvPicPr>
        <p:blipFill>
          <a:blip r:embed="rId1"/>
          <a:stretch/>
        </p:blipFill>
        <p:spPr>
          <a:xfrm>
            <a:off x="152280" y="41400"/>
            <a:ext cx="876312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6:08:59Z</dcterms:created>
  <dc:creator>eduffy25</dc:creator>
  <dc:description/>
  <dc:language>en-US</dc:language>
  <cp:lastModifiedBy>eduffy25</cp:lastModifiedBy>
  <dcterms:modified xsi:type="dcterms:W3CDTF">2014-03-23T09:42:49Z</dcterms:modified>
  <cp:revision>22</cp:revision>
  <dc:subject/>
  <dc:title>Movies, Media, and Matrimony</dc:title>
</cp:coreProperties>
</file>